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E7F-9C01-4F47-963A-46830512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40E-DC50-412A-9413-FE73ED39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F79-7B8E-4561-A982-EB0AA990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328-8300-49CF-8EE7-E87CC9BB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1D31-FCC3-415E-AFAA-47836FFC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3C08-A8AF-4B28-98F0-FEB6BE95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417D-6E4B-4DC1-A042-C1C8F423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2218-379F-4E4F-A0CE-52A91545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BBAE-FBCF-4233-A801-E7EC850D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97AB-0868-4CC3-BA31-E20D3989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F94E-AC8C-4650-BCCE-440E937D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2D7-0E9D-4101-A68F-FD09CF18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D8C0-9274-4CD3-85DA-B00B2725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09F9-F879-44CF-BC24-480E13D7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3591-2505-479F-993B-ABC668BC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7858-E3C5-4B85-8B0D-4DAA284C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DB59-516F-4A8D-A928-34C975DE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77E-180D-4B01-8C6A-F3B55E11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0C4-83E1-400F-BA2A-8435C20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802-61C6-4493-B7D2-C07FC49C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0E9-DC92-4AA4-B142-0BC6E0C9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B6B-D434-45FC-97C6-D8AA5580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82D-217B-4A24-B04C-26365CBC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257-5B1B-40D4-AF46-420D3421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B25B85-CCE7-49C7-B3D4-40AAB075046F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2286BF-F682-4B28-9F3A-FB784ABB2DC0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eografianair9.blogspot.com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6792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0033"/>
                </a:solidFill>
                <a:latin typeface="Times New Roman"/>
              </a:rPr>
              <a:t>Escola Estadual Profª. Nair Palácio de Souza</a:t>
            </a:r>
            <a:br>
              <a:rPr sz="2400"/>
            </a:br>
            <a:r>
              <a:rPr b="1" lang="pt-BR" sz="2400" spc="-1" strike="noStrike">
                <a:solidFill>
                  <a:srgbClr val="330033"/>
                </a:solidFill>
                <a:latin typeface="Times New Roman"/>
              </a:rPr>
              <a:t>apresenta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2640" y="40384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JETO DOS PROFESSORES DA SALA DE TECNOLOGIAS EDUCACIONA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 ENCONTRO- PSTE -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800" y="-180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20720" y="3246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592776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va Andradina-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stagens de cronogramas dos Projetos Realizados na esco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crib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www.scribd.com/doc/15279034/Cancer-a-prevencao-e-o-melhor-reme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www.scribd.com/doc/13844646/PROJETOAGUAE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www.scribd.com/doc/16786131/Projeto-Figuras-geomet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fessores participa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38680" y="4229280"/>
            <a:ext cx="2884680" cy="2162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8120" y="304812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85800" y="1523880"/>
            <a:ext cx="2540160" cy="2076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2997360" cy="1847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85800" y="4038480"/>
            <a:ext cx="2590920" cy="21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urso Atac I e Linux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31040" y="1600200"/>
            <a:ext cx="246384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581280" y="152244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49320" y="2746440"/>
            <a:ext cx="2387520" cy="2190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613320" y="4525920"/>
            <a:ext cx="2286000" cy="1792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402240" y="3886200"/>
            <a:ext cx="23115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da STE da E.E. Profª Nair Palácio de Souza agradecem a todos os participantes desse projeto e espera no 2º semestre a adesão de todos os professores, para a construção de suas páginas, seus sites, blogs, enfim, que façam da WEB um meio de comunicação e transmissão de conhecimentos aos seus alu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400" spc="-1" strike="noStrike">
                <a:solidFill>
                  <a:srgbClr val="330033"/>
                </a:solidFill>
                <a:latin typeface="Times New Roman"/>
              </a:rPr>
              <a:t>PROJETO: NAIR PALÁCIO NA WEB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desenvolvido no 1º semestre do ano letivo de 2009 pelos professores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ernando Milhorança, José Marcelo Gomes e Marina Alessandra de Oliveira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tuantes e responsáveis pel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ala de Tecnologias Educac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cola Estadual Profª. Nair Palácio de Sou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colha deste projeto tem como principal finalidade a oportunização do conhecimento tecnológico para todos os regentes de nossa escola, possibilitando o acesso a novas formas de transmissão de conhecimento atravé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ebtecnologias, tais como: blog, wikispaces, Pral, MSN e outras ferramentas indispensáveis para o uso adequado da Sala de Tecnolog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tividades a serem desenvolvidas neste projeto contemplam a capacitação do professor regente, já que em nossa escola a maioria dos professores alega não possuir tempo disponível para participar dos cursos ofertados pela STE e como a troca de experiências virtuais com os professores da STE é indispensável, procuramos valorizar os conhecimentos prévios que a maioria já adquiriu e inovar as formas de relação com as novidades tecnológicas, este projeto visa então atender cada professor regente individualmente nas tarefas que este mais tiver interesse em apre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enderá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es Regentes da Educação Bás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tores da Escola Estadual Profª. Nair Palácio de Souz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ivo Ger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pacitar nossos professores, coordenadores e gestores disponibilizando o acesso ao ensino-aprendizagem relacionados ao uso das tecnologias e webtecnologias, e desenvolvendo atividades sob orientação dos Professores da STE, junto aos docentes da escola, dando suporte e orientação nos projetos por eles desenvolvidos e aplicados no dia a dia da rotina esco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ivos Específi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4240" indent="-71424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284120"/>
                <a:tab algn="l" pos="2198520"/>
                <a:tab algn="l" pos="3112920"/>
                <a:tab algn="l" pos="4027320"/>
                <a:tab algn="l" pos="4941720"/>
                <a:tab algn="l" pos="5856120"/>
                <a:tab algn="l" pos="6770520"/>
                <a:tab algn="l" pos="7684920"/>
                <a:tab algn="l" pos="8599320"/>
                <a:tab algn="l" pos="951372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entivar o uso adequado da Sala de Tecnologias Educacionais valorizando o processo de ensino-aprendiz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284120"/>
                <a:tab algn="l" pos="2198520"/>
                <a:tab algn="l" pos="3112920"/>
                <a:tab algn="l" pos="4027320"/>
                <a:tab algn="l" pos="4941720"/>
                <a:tab algn="l" pos="5856120"/>
                <a:tab algn="l" pos="6770520"/>
                <a:tab algn="l" pos="7684920"/>
                <a:tab algn="l" pos="8599320"/>
                <a:tab algn="l" pos="951372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ir e alimentar dentro da rede virtual sites, blogs, páginas na internet que possibilitem a interação entre professor da STE, professor regente e alu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284120"/>
                <a:tab algn="l" pos="2198520"/>
                <a:tab algn="l" pos="3112920"/>
                <a:tab algn="l" pos="4027320"/>
                <a:tab algn="l" pos="4941720"/>
                <a:tab algn="l" pos="5856120"/>
                <a:tab algn="l" pos="6770520"/>
                <a:tab algn="l" pos="7684920"/>
                <a:tab algn="l" pos="8599320"/>
                <a:tab algn="l" pos="951372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entar e dar suporte técnico-pedagógico na elaboração e realização de projetos educacionais voltados ao uso das novas tecnolog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284120"/>
                <a:tab algn="l" pos="2198520"/>
                <a:tab algn="l" pos="3112920"/>
                <a:tab algn="l" pos="4027320"/>
                <a:tab algn="l" pos="4941720"/>
                <a:tab algn="l" pos="5856120"/>
                <a:tab algn="l" pos="6770520"/>
                <a:tab algn="l" pos="7684920"/>
                <a:tab algn="l" pos="8599320"/>
                <a:tab algn="l" pos="951372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ulgar o nome da escola na Web, tornando público todos os trabalhos, projetos, aulas desenvolvidos na Sala de Tecnologias Educacionais, promovendo assim o reconhecimento da comunidade pelas nossas ações educac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330033"/>
                </a:solidFill>
                <a:latin typeface="Times New Roman"/>
              </a:rPr>
              <a:t>Sites e blogs desenvolvidos pelos por professores regentes no ambiente da STE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sta de endereços eletrônicos disponibilizados pela Escola Estadual Profª Nair Palácio de Souza n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blogescolanairpalacio.blogspot.com/=&gt; Divulga todos os projetos, eventos da escola, aulas na Sala de Tecnologias Educacionais, além de atuar como página principal, onde se encontra todos os outros blogs em forma de links a serem aces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jornalvirtualnairpalaciodesouza.blogspot.com/=&gt; Blog criado pela Profª Andréia Erdman para divulgação das produções textuais, aulas interessantes, notícias e novidades relacionadas ao uso da Língua Portugu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jetoaguaevida.blogspot.com/=&gt; Blog criado para postagem de todas as atividades desenvolvidas no Projeto: Água e Vida, desenvolvido no 1º Bimestre pelos professores da área de Ciências Humanas e Fís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geografianair8.blogspot.com /=&gt; Blog criado com a finalidade de postagens das atividades a serem trabalhadas pelo professor Adevair, na disciplina de Geografia, divulgação de conteúdo para avaliações, gabaritos de provas realizadas, sugestões de sites para pesquisas, 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geografianair9.blogspot.com/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&gt; Blog criado com a finalidade de postagens das atividades a serem trabalhadas pelo professor Adevair, na disciplina de Geografia, divulgação de conteúdo para avaliações, gabaritos de provas realizadas, sugestões de sites para pesquisas, 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neidesociologianair.blogspot.com/=&gt; Espaço destinado a postagens de vídeos, slides, textos produzidos pelos alunos da Profª Neide Rosenbaum, na disciplina de Sociologia, com maior destaque para o projeto: “Solidariedad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blogprofmarciafilo.blogspot.com/=&gt; Espaço destinado a postagens de vídeos, slides, textos produzidos pelos alunos da Profª Márcia Guimarães, na disciplina de Filosof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blogprofessoramarina.blogspot.com/=&gt; Espaço destinado a postagens de slides, vídeos, conteúdos relativos às disciplinas de Língua Portuguesa e Literatura, criado pela Profª Marina, atuante na Sala de Tecnologias Educacion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áginas no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f-nair-palacio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icoli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kennedyab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teachermarina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consumoconsciente01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jetoeletricidade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fkelle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lslnb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marcelogome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rosenbaum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jandrey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tecnicomarketing.wikispaces.co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info</cp:lastModifiedBy>
  <cp:revision>0</cp:revision>
  <dc:subject/>
  <dc:title>PowerPoint Presentation</dc:title>
</cp:coreProperties>
</file>